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DA8-F01D-48C8-A5C7-A0FE16CC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675-FB2E-4EB5-9705-088A9BE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1D6-295B-430F-8BA1-C5DE1D0B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426-49E4-4D59-AC87-6E290908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9B0-7BB3-45B1-8D5E-42B9976B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69E-60ED-4A4E-8ABD-19F9B4B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CA3-4547-4EC9-8C26-FA01B4C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3AF-A9C8-462F-BC02-F550E64F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1D8-F16E-4325-8A34-B8F0878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F6F-DAF2-4650-9F30-F60A96D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0DD-0FBB-4D3E-9441-3B460AC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097-0F39-47F5-9B3E-7404226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3EEE-0DB5-4C21-B448-F617BBA3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Ideal Ga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l Gas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assumptions in the kinetic molecular theory that describe an ide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molecules have zero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of attraction/repulsion are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ove in straigh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are completely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t high pressure and low temperature there are problems with thes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very small volumes there will be many more interactions and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umes of the gas molecules is now a significant fraction of th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228600"/>
          <a:ext cx="8686800" cy="61866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ome cases (polar molecules), mild attractions exist between particles (volume is mildly decreas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ttractions exist between particles (no IMF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particles occupy spa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particles have no volu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gases do condense at low temperature and high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gases will NOT condense into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” obey the gas law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y gas laws perfect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 RANDOM mo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of particles is always in straight li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2895480"/>
            <a:ext cx="8077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7339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800600"/>
            <a:ext cx="7467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38680"/>
            <a:ext cx="79250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Ideal Ga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219320"/>
            <a:ext cx="693432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yle’s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 = 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’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 =  k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’s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b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kab X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R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1600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4191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601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590920"/>
            <a:ext cx="34290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3733920"/>
            <a:ext cx="34290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29528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648320"/>
            <a:ext cx="2286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715000"/>
            <a:ext cx="2286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638680"/>
            <a:ext cx="228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V= n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pressure (k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volume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amount (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emperature 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219320"/>
            <a:ext cx="4191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Analy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(kPa)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l)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8.314 k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L/m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724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297180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y The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deal gas law to calculate the molar volume of a gas at S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 of laughing gas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has a diameter of 23.0 cm and a height of 140 cm. The pressure is 108 kPa at a temperature of 294 K. How many grams of laughing gas are in the cyli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ylyli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. 443-4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45 #3,4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48 #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1:28Z</dcterms:created>
  <dc:creator>OCDSB User</dc:creator>
  <dc:description/>
  <dc:language>en-US</dc:language>
  <cp:lastModifiedBy>OCDSB User</cp:lastModifiedBy>
  <dcterms:modified xsi:type="dcterms:W3CDTF">2011-06-02T15:52:40Z</dcterms:modified>
  <cp:revision>9</cp:revision>
  <dc:subject/>
  <dc:title>The Ideal Gas Law</dc:title>
</cp:coreProperties>
</file>